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gif" ContentType="image/gi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0DC-80B4-440A-B0F0-E2042695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4AE-E031-4875-81C6-AFA312A6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74FE-4033-43D6-9646-9ED99BD2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676-B6F5-43B3-9C49-B13DD723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B267-FED9-4AE4-B8D3-497F048B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804A-274C-472A-8E1A-3B36CB06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7FFB-533C-4065-A702-51CDD4F8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A82E-803C-4405-A104-8EEED0EC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6E8A-CDFB-4200-89B3-FDC8DBBD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374-9A37-48E4-8C8F-7FC3EBC0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DF53-E9D8-4C51-9655-D27BD411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A51B-F0BA-4060-B20F-AEEC86CA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E722-774C-4AA1-90D7-7DE28629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E127-671B-405D-B798-D15D68BB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E238-E2E1-42AE-BE32-00EF4C96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E469D-D1BD-474A-B03A-FEDFB4CE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BFE4F-9666-4C4E-8418-A432E236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0CE-F4D3-41F1-A567-E2ED752C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FCA8-84F9-4A52-A44D-AE086643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CCF-8240-4FFF-A4B2-C9EA4659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7E4-604B-45EE-8E35-2DD5E958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EA78-B7B3-4F84-8F96-D77B562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1AC-07E1-4A8F-AF79-4FB1578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8667-9F46-4FB4-B33C-C368944A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4CFA-CF7A-448A-BF1D-6582CA42F0B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7F1C-9BEE-4DE9-BE2E-159720AFD54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57320" y="188640"/>
            <a:ext cx="7340400" cy="34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Бюджет для граждан муниципального образования «Рышковский сельсовет» Железногорского района Курской облас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7640" y="7749720"/>
            <a:ext cx="6400800" cy="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840" bIns="2484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Расходы в сфере культуры, кинематографии1039 план 2015 года в том числе: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культура 1039 тыс.рубл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463760" y="1986120"/>
            <a:ext cx="1222200" cy="1390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76360" y="3716280"/>
            <a:ext cx="54007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Показатели в сфере культуры, кинематографии, на достижение которых будут направлены средства бюджета муниципального образования «Рышковский сельсовет» Железногорского района Курской области</a:t>
            </a: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Муниципальная  программа  </a:t>
            </a:r>
            <a:br>
              <a:rPr sz="1800"/>
            </a:b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Развитие культуры в муниципальном образовании «Рышковский сельсовет» Железногорского  района Курской области» (2015-2020годы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Цель программы - реализация стратегической роли культуры как духовно-нравственного основания развития личности и единства  российского обще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Задачи программы - обеспечение доступа граждан к участию в культурной жизни, реализация творческого потенциала насел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Показатели в сфере культуры, кинематографии, на достижение которых будут направлены средства бюджета муниципального образования «Рышковский сельсовет» Железногорского района Курской области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ирост количества культурно-просветительских мероприятий, проведенных организациями культуры </a:t>
            </a:r>
            <a:r>
              <a:rPr b="0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в образовательных учреждениях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, по сравнению с 2014 годом (проценты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дельный вес населения муниципального образования, участвующего в платных культурно-досуговых мероприятиях, проводимых муниципальными  сельскими учреждениями культуры (проценты)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тношение среднемесячной номинальной начисленной заработной платы работников муниципальных сельских учреждений культуры   к среднемесячной номинальной начисленной заработной плате работников, занятых в сфере  экономики в регионе (проценты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Расходы на общегосударственные вопросы 932,8 тыс.рублей план 2015 год, в том числе: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298 тыс.рубл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3249720"/>
            <a:ext cx="763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Функционирование Правительства Российской Федерации, высших исполнительных органов государственной власти субъектов  Российской Федерации, местных администраций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607,8 тыс.рубл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ругие общегосударственные вопросы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 27 тыс.рублей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Бюджет – форма образования и расходования денежных средств для решения задач и функций государства и местного самоуправления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5200" y="356760"/>
            <a:ext cx="726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7d47d"/>
                </a:solidFill>
                <a:latin typeface="Arial"/>
              </a:rPr>
              <a:t>Принцип разграничения доходов,расходов и источников финансирования бюджета</a:t>
            </a:r>
            <a:endParaRPr b="0" lang="en-US" sz="21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 каждым БЮДЖЕТОМ в соответствии с законодательством Российской Федерации закреплены ДОХОДЫ, РАСХОДЫ и источники финансирования БЮДЖЕТ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азграничения доходов бюджета установлено Налоговым кодексом Российской Федерации, Бюджетным кодексом Российской Федерации, местным законодательств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Разграничения расходов бюджета установлено Федеральным законом от 06.10.2003 года №131 Федеральный закон «Об общих принципах местного самоуправления в Российской Федерации», местным законодательств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1197000"/>
            <a:ext cx="485640" cy="503280"/>
          </a:xfrm>
          <a:prstGeom prst="downArrow">
            <a:avLst>
              <a:gd name="adj1" fmla="val 50000"/>
              <a:gd name="adj2" fmla="val 25908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ДОХОДЫ БЮДЖ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Доходы бюджета составляют собственные доходы(налоговые и неналоговые доходы) и безвозмездные поступления от других бюджетов в виде дотаций, субсидий, субвенций и иных межбюджетных трансфертов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1255680" y="1996920"/>
            <a:ext cx="20541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Расходы бюдже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Расходы бюджета включают расходы на оказание муниципальных услуг, социальное обеспечение насел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008680" y="2152800"/>
            <a:ext cx="20858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Основные параметры бюджета муниципального образования «Рышковский сельсовет» Железногорского района Курской области на 2015 год и плановый период 2016-2017годов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900000" y="2205000"/>
          <a:ext cx="7489800" cy="4522680"/>
        </p:xfrm>
        <a:graphic>
          <a:graphicData uri="http://schemas.openxmlformats.org/drawingml/2006/table">
            <a:tbl>
              <a:tblPr/>
              <a:tblGrid>
                <a:gridCol w="2767320"/>
                <a:gridCol w="1465200"/>
                <a:gridCol w="1630800"/>
                <a:gridCol w="1411200"/>
                <a:gridCol w="21600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016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017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оходы – всего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тыс. рублей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16,2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476,3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508,9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В том числе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обственные доходы (тыс.рублей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72,9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76,2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382,4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Расходы – всего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(тыс. рублей)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182,2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403.9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638,8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103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Дефицит местного бюджет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666,0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1927,6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2129,9</a:t>
                      </a:r>
                      <a:endParaRPr b="0" lang="en-US" sz="20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Доходы бюджета </a:t>
            </a:r>
            <a:r>
              <a:rPr b="0" lang="ru-RU" sz="1600" spc="-1" strike="noStrike">
                <a:solidFill>
                  <a:srgbClr val="f7d47d"/>
                </a:solidFill>
                <a:latin typeface="Arial"/>
              </a:rPr>
              <a:t>муниципального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образования «Рышковский сельсовет» Железногорского района Курской области на 2015 год, тыс.рублей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826920" y="2060640"/>
            <a:ext cx="7939080" cy="2517120"/>
            <a:chOff x="826920" y="2060640"/>
            <a:chExt cx="7939080" cy="2517120"/>
          </a:xfrm>
        </p:grpSpPr>
        <p:cxnSp>
          <p:nvCxnSpPr>
            <p:cNvPr id="208" name="_s53261"/>
            <p:cNvCxnSpPr/>
            <p:nvPr/>
          </p:nvCxnSpPr>
          <p:spPr>
            <a:xfrm flipV="1" rot="16200000">
              <a:off x="5504760" y="1919520"/>
              <a:ext cx="1136880" cy="2716920"/>
            </a:xfrm>
            <a:prstGeom prst="bentConnector3">
              <a:avLst>
                <a:gd name="adj1" fmla="val 10041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09" name="_s53260"/>
            <p:cNvCxnSpPr/>
            <p:nvPr/>
          </p:nvCxnSpPr>
          <p:spPr>
            <a:xfrm flipH="1" flipV="1" rot="5400000">
              <a:off x="4320000" y="3102120"/>
              <a:ext cx="1150200" cy="73080"/>
            </a:xfrm>
            <a:prstGeom prst="bentConnector3">
              <a:avLst>
                <a:gd name="adj1" fmla="val 9924"/>
              </a:avLst>
            </a:prstGeom>
            <a:ln w="28440">
              <a:solidFill>
                <a:srgbClr val="2f1311"/>
              </a:solidFill>
              <a:miter/>
            </a:ln>
          </p:spPr>
        </p:cxnSp>
        <p:cxnSp>
          <p:nvCxnSpPr>
            <p:cNvPr id="210" name="_s53259"/>
            <p:cNvCxnSpPr/>
            <p:nvPr/>
          </p:nvCxnSpPr>
          <p:spPr>
            <a:xfrm flipH="1" flipV="1" rot="5400000">
              <a:off x="2922120" y="1837800"/>
              <a:ext cx="1136880" cy="2880720"/>
            </a:xfrm>
            <a:prstGeom prst="bentConnector3">
              <a:avLst>
                <a:gd name="adj1" fmla="val 10041"/>
              </a:avLst>
            </a:prstGeom>
            <a:ln w="28440">
              <a:solidFill>
                <a:srgbClr val="2f1311"/>
              </a:solidFill>
              <a:miter/>
            </a:ln>
          </p:spPr>
        </p:cxnSp>
        <p:sp>
          <p:nvSpPr>
            <p:cNvPr id="211" name="_s53255"/>
            <p:cNvSpPr/>
            <p:nvPr/>
          </p:nvSpPr>
          <p:spPr>
            <a:xfrm>
              <a:off x="3707280" y="2060640"/>
              <a:ext cx="2397600" cy="100872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f1311"/>
                  </a:solidFill>
                  <a:latin typeface="Arial"/>
                </a:rPr>
                <a:t>Доходы бюджета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f1311"/>
                  </a:solidFill>
                  <a:latin typeface="Arial"/>
                </a:rPr>
                <a:t>516,2</a:t>
              </a:r>
              <a:endParaRPr b="0" lang="en-US" sz="20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2" name="_s53256"/>
            <p:cNvSpPr/>
            <p:nvPr/>
          </p:nvSpPr>
          <p:spPr>
            <a:xfrm>
              <a:off x="826920" y="3429720"/>
              <a:ext cx="2397600" cy="79416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Налоговые доходы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346,9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3" name="_s53257"/>
            <p:cNvSpPr/>
            <p:nvPr/>
          </p:nvSpPr>
          <p:spPr>
            <a:xfrm>
              <a:off x="3635280" y="3574080"/>
              <a:ext cx="2397600" cy="93888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Неналоговые 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Доходы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4" name="_s53258"/>
            <p:cNvSpPr/>
            <p:nvPr/>
          </p:nvSpPr>
          <p:spPr>
            <a:xfrm>
              <a:off x="6371640" y="3498120"/>
              <a:ext cx="2394360" cy="1079640"/>
            </a:xfrm>
            <a:prstGeom prst="roundRect">
              <a:avLst>
                <a:gd name="adj" fmla="val 16667"/>
              </a:avLst>
            </a:prstGeom>
            <a:solidFill>
              <a:srgbClr val="d5b781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Безвозмездные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Поступления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f1311"/>
                  </a:solidFill>
                  <a:latin typeface="Arial"/>
                </a:rPr>
                <a:t>143,3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1835280" y="4292640"/>
            <a:ext cx="288720" cy="21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4581360"/>
            <a:ext cx="2448000" cy="466920"/>
          </a:xfrm>
          <a:prstGeom prst="flowChartProcess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НДФЛ  87,6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6920" y="5157720"/>
            <a:ext cx="2521080" cy="432000"/>
          </a:xfrm>
          <a:prstGeom prst="flowChartProcess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Единый с/х налог 1,0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26920" y="5661000"/>
            <a:ext cx="252108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Земельный налог 257,3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4508640"/>
            <a:ext cx="289080" cy="360360"/>
          </a:xfrm>
          <a:prstGeom prst="downArrow">
            <a:avLst>
              <a:gd name="adj1" fmla="val 50000"/>
              <a:gd name="adj2" fmla="val 31164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08360" y="4869000"/>
            <a:ext cx="2592360" cy="865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Доходы от сдачи в аренду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Имущества, находящегося в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Государственной и муниципальной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Собственности 22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5734080"/>
            <a:ext cx="2592360" cy="5032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Доходы от оказания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f1311"/>
                </a:solidFill>
                <a:latin typeface="Arial"/>
              </a:rPr>
              <a:t>платных услуг 4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7d47d"/>
                </a:solidFill>
                <a:latin typeface="Arial"/>
              </a:rPr>
              <a:t>Расходы бюджета муниципального образования «Рышковский сельсовет» Железногорского района Курской области на 2015 год, тыс.рублей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628640"/>
          <a:ext cx="7129440" cy="5050080"/>
        </p:xfrm>
        <a:graphic>
          <a:graphicData uri="http://schemas.openxmlformats.org/drawingml/2006/table">
            <a:tbl>
              <a:tblPr/>
              <a:tblGrid>
                <a:gridCol w="1770840"/>
                <a:gridCol w="3750840"/>
                <a:gridCol w="16077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оды бюджетной  классификации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Сумма тыс.руб</a:t>
                      </a:r>
                      <a:endParaRPr b="0" lang="en-US" sz="1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01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32,8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02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69,2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03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05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08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Культура, кинематография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039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25,2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13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98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ВСЕГО РАСХОДОВ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0" i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7900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i="1" lang="ru-RU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Профицит бюджета (со знаком "+")                                       Дефицит бюджета (со знаком " - ")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f1311"/>
                          </a:solidFill>
                          <a:latin typeface="Times New Roman"/>
                          <a:ea typeface="Times New Roman"/>
                        </a:rPr>
                        <a:t>-1666</a:t>
                      </a: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d47d"/>
                </a:solidFill>
                <a:latin typeface="Arial"/>
              </a:rPr>
              <a:t>Расходы в сфере социальной политики 125,2 тыс.рублей план 2015 года, в том числе</a:t>
            </a:r>
            <a:endParaRPr b="0" lang="en-US" sz="1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026960" y="1598760"/>
            <a:ext cx="36226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- пенсионное обеспечение 125,2 тыс.рубл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33112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2T12:14:13Z</dcterms:created>
  <dc:creator>User</dc:creator>
  <dc:description/>
  <dc:language>en-US</dc:language>
  <cp:lastModifiedBy>User</cp:lastModifiedBy>
  <dcterms:modified xsi:type="dcterms:W3CDTF">2014-12-26T08:19:44Z</dcterms:modified>
  <cp:revision>7</cp:revision>
  <dc:subject/>
  <dc:title>Бюджет для граждан муниципального образования «Рышковский сельсовет» Железногорского района Курской области</dc:title>
</cp:coreProperties>
</file>